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DEB1-2873-4399-B233-9454DE0D3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F137-7C09-4DFC-B31B-7736618F8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16AB-DBA6-4528-8594-71DDB233D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7662-3D29-4C3C-82E0-42060EC75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3E1E-3064-4D17-A901-AB0DAAF06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A89C-0486-4CD9-9DA2-5900B073B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CB79-C484-456C-85D8-C7748B518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C281-4457-4E57-B871-924D50948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A4A8-B02C-461F-948D-F55CB7B51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8C2E-9BC2-4FAF-9709-EFB28C5A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ACA2-C0EF-432B-A391-BD0B3F6D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25D2-AD7D-4F61-964B-DEC5D666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1CE4-7D02-4997-98F0-C75FA26B4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enzymes in Respi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D+</a:t>
            </a:r>
            <a:br>
              <a:rPr sz="44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mage from: http://en.wikipedia.org/wiki/File:NAD%2B_phys.sv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D+ nicotinamide adenine dinucleotide is a coenzyme found in all living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a derivative of vitamin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niac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respiration it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duc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y the transfer of H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138640" y="1981080"/>
            <a:ext cx="2828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uction of NAD+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wikispaces.psu.edu/download/attachments/46695631/NAD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01600" y="1981080"/>
            <a:ext cx="6940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D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andwalk.blogspot.com/2007/04/riboflavin-vitamin-b2-fmn-and-fad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D (flavin adenine dinucleotide) is a coenzyme involved in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a derivative of vitamin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riboflav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also reduced during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48320" y="2058840"/>
            <a:ext cx="380988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uction of FAD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ncbi.nlm.nih.gov/books/NBK22398/?rendertype=figure&amp;id=A19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2981160"/>
            <a:ext cx="777240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0T21:15:49Z</dcterms:created>
  <dc:creator>rubina khan</dc:creator>
  <dc:description/>
  <dc:language>en-US</dc:language>
  <cp:lastModifiedBy>rubina khan</cp:lastModifiedBy>
  <dcterms:modified xsi:type="dcterms:W3CDTF">2011-10-14T17:40:38Z</dcterms:modified>
  <cp:revision>24</cp:revision>
  <dc:subject/>
  <dc:title>PowerPoint Presentation</dc:title>
</cp:coreProperties>
</file>